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E2E1-82AA-4877-8404-2984EFB7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179-F21B-406A-898C-1A2CC586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E38-F2F2-4BA5-B017-C4FD9E82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DA5-0835-4BC0-888B-80368A12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4342-0AE9-4550-A836-128A4091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3365-10D7-476D-B0EA-9E8A7AA9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6474-67A7-40E2-8D1A-DB3AF991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AFA1-ADE3-43B2-B402-B397D2EE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669E-CE61-478C-8534-475BBFD4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1DE7-88D5-4ABB-AFCE-7E465876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027C-E5FD-40CE-90C0-A4F40547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CDBC-3599-4E6D-A29C-0FB00C51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7D98-CB27-4799-84F8-00EDC0B2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769D-226E-4C39-BF76-71E6EDB7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CD07-4D11-4291-B700-EDA2BFE9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3D1A-975F-465F-B91B-D5755B10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7445-4DDF-4531-B6C0-517BBEE7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D385-DEEA-40E7-83F5-8D6EAAAC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06C-2838-475B-948A-A52DD665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670-F1C0-4AC9-88D6-037F8080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C079-6C2A-4209-9E40-724223F0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953-7052-4163-8439-450231D0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3500-457E-40AE-83C7-369AF9FE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893-0457-4B9B-A21A-D129139B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958E-9A6F-4C8D-AD41-68F7D61774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B869-E7E1-4F9C-BA5D-3FB24077A8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pwhphys.wikispaces.com/Renewable+Energy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Renewable Energy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, Angela Paras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 Ways of the Format of     ……Renewable Energy……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62481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742840" y="761760"/>
            <a:ext cx="5715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Renewable Ener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ewable energy is natural energy which does not have a limited supply. Renewable energy can be used again and again, and will never run o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ntent of Renewable Energ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ferences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61960" y="1600200"/>
            <a:ext cx="6476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clean-energy-ideas.com/energy_definitions/definition_of_renewable_energy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hart-isee.com/index.php?page=world-energy-consumption#Facts and Predi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2:16:05Z</dcterms:created>
  <dc:creator>User</dc:creator>
  <dc:description/>
  <dc:language>en-US</dc:language>
  <cp:lastModifiedBy>User</cp:lastModifiedBy>
  <dcterms:modified xsi:type="dcterms:W3CDTF">2010-01-21T02:23:27Z</dcterms:modified>
  <cp:revision>1</cp:revision>
  <dc:subject/>
  <dc:title>Renewable Energy </dc:title>
</cp:coreProperties>
</file>